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F8D-B88E-4E7A-93E5-A7202470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01E-9BD9-43B9-AAC5-28358933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905-4720-4E5D-8431-37ACA471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D9A7-BABD-4F69-9C13-A8DB2FEE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5E1-91FC-4956-A2C4-D989B377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19C-98EC-4F64-A7CD-5F5B698C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5C50-9E9E-4C17-BF61-58D57230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2176-68D7-4ADA-B488-054B1053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5C8-B8B3-477F-9F2C-39BC7A8F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C14-10E3-4997-9434-2E6B954B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635-C756-489E-80F7-B89BD98C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A06-B14C-4587-A760-43A674FC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277A-86D0-4E5D-A4F3-2C73FB49F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sentación Tarea ME4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Grup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berto Est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ernando H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5 de noviembre d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4005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rofesor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Oscar Bu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95640" y="1916280"/>
            <a:ext cx="108612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barra cilíndrica de acero de largo 10’’ y 2’’ de diámetro es cubierta por una delgada capa de plomo, la cual está fuertemente adherida a la superficie cilíndrica de la barra. Una fuerza axial F y un momento de torsión M son aplicados al cilindro, el momento es constante e igual a M=G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*F*R/E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urante todo el tiempo de carga, donde R es el radio del cilind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3933720"/>
            <a:ext cx="79200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5734080"/>
            <a:ext cx="79200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4076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4076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084640"/>
            <a:ext cx="5760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4221000"/>
            <a:ext cx="0" cy="1656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4292640"/>
            <a:ext cx="0" cy="16556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4292640"/>
            <a:ext cx="0" cy="16556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59280" y="4292640"/>
            <a:ext cx="0" cy="165564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4221000"/>
            <a:ext cx="0" cy="1656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643280" y="3644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602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4720" y="3429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4720" y="6237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25840" y="465300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pa de plo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932360" y="3860640"/>
            <a:ext cx="43164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4160" y="36450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=1’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156360" y="4437000"/>
                <a:ext cx="19209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220000" y="558972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=10’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5400" y="3848040"/>
            <a:ext cx="295200" cy="173160"/>
          </a:xfrm>
          <a:custGeom>
            <a:avLst/>
            <a:gdLst/>
            <a:ahLst/>
            <a:rect l="l" t="t" r="r" b="b"/>
            <a:pathLst>
              <a:path w="186" h="109">
                <a:moveTo>
                  <a:pt x="48" y="0"/>
                </a:moveTo>
                <a:cubicBezTo>
                  <a:pt x="14" y="7"/>
                  <a:pt x="11" y="10"/>
                  <a:pt x="0" y="42"/>
                </a:cubicBezTo>
                <a:cubicBezTo>
                  <a:pt x="11" y="74"/>
                  <a:pt x="47" y="92"/>
                  <a:pt x="78" y="102"/>
                </a:cubicBezTo>
                <a:cubicBezTo>
                  <a:pt x="150" y="96"/>
                  <a:pt x="154" y="109"/>
                  <a:pt x="186" y="60"/>
                </a:cubicBezTo>
                <a:cubicBezTo>
                  <a:pt x="179" y="11"/>
                  <a:pt x="176" y="0"/>
                  <a:pt x="12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38800" y="6058080"/>
            <a:ext cx="306360" cy="187200"/>
          </a:xfrm>
          <a:custGeom>
            <a:avLst/>
            <a:gdLst/>
            <a:ahLst/>
            <a:rect l="l" t="t" r="r" b="b"/>
            <a:pathLst>
              <a:path w="193" h="118">
                <a:moveTo>
                  <a:pt x="180" y="42"/>
                </a:moveTo>
                <a:cubicBezTo>
                  <a:pt x="192" y="77"/>
                  <a:pt x="193" y="87"/>
                  <a:pt x="156" y="96"/>
                </a:cubicBezTo>
                <a:cubicBezTo>
                  <a:pt x="24" y="89"/>
                  <a:pt x="46" y="118"/>
                  <a:pt x="0" y="48"/>
                </a:cubicBezTo>
                <a:cubicBezTo>
                  <a:pt x="8" y="24"/>
                  <a:pt x="15" y="14"/>
                  <a:pt x="36" y="0"/>
                </a:cubicBezTo>
                <a:cubicBezTo>
                  <a:pt x="68" y="6"/>
                  <a:pt x="56" y="6"/>
                  <a:pt x="72" y="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2160" y="602136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2160" y="37162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pos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fuerza y el momento en la capa de plomo son insignificantes comparadas con la fuerza y el momento en la barra de ac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plomo es perfectamente plástico rígido, es decir, no hay tensión elástica y tampoco trabajo de endure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tensión en la capa de plomo es unifor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módulo de Young para el acero es E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3x10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7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si, el módulo de rigidez es G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1,1x10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si, y el módulo de Poisson es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ál es el incremento de deformación plástica en el plomo al aumentar la fuerza de F a F + d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ál es la distribución del esfuerzo en la capa de plomo luego del aumento en la fuerz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01456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Desar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dε=dσ/E+(2/3)σdλ   </a:t>
            </a:r>
            <a:r>
              <a:rPr b="0" lang="es-ES" sz="3200" spc="-1" strike="noStrike">
                <a:solidFill>
                  <a:srgbClr val="009999"/>
                </a:solidFill>
                <a:latin typeface="Garamond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dγ=dτ/2G+ σdλ   </a:t>
            </a:r>
            <a:r>
              <a:rPr b="0" lang="es-ES" sz="3200" spc="-1" strike="noStrike">
                <a:solidFill>
                  <a:srgbClr val="009999"/>
                </a:solidFill>
                <a:latin typeface="Garamond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Criterio de Von Mises                                       σ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 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+ 3τ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 = Y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    </a:t>
            </a:r>
            <a:r>
              <a:rPr b="0" lang="es-ES" sz="3200" spc="-1" strike="noStrike">
                <a:solidFill>
                  <a:srgbClr val="009999"/>
                </a:solidFill>
                <a:latin typeface="Garamond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De (1),(2) y (3) se obtiene la sgte re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3dL/rdφ=σ/τ+(L/r)(3dσ/Edφ-σdτ/τGd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Utilizando la aproximación E=3G obten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Desarrollo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3dL/rdφ=σ/τ-(Y</a:t>
            </a:r>
            <a:r>
              <a:rPr b="0" lang="es-ES" sz="28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L/Gσr)(1/τ)(dτ/d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Como τ=cte en la zona plástica, entonces (dτ/dφ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=&gt;3dL/rdφ=σ/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Por otro lado sabemo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τ=2Mr/πR</a:t>
            </a:r>
            <a:r>
              <a:rPr b="0" lang="es-ES" sz="2800" spc="-1" strike="noStrike" baseline="30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9999"/>
                </a:solidFill>
                <a:latin typeface="Garamond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Pero como M=GRF/2E </a:t>
            </a:r>
            <a:r>
              <a:rPr b="0" lang="es-ES" sz="2800" spc="-1" strike="noStrike">
                <a:solidFill>
                  <a:srgbClr val="009999"/>
                </a:solidFill>
                <a:latin typeface="Garamond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(a) con (b) =&gt;  τR</a:t>
            </a:r>
            <a:r>
              <a:rPr b="0" lang="es-ES" sz="28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/2r=(GR/2E)F/πR</a:t>
            </a:r>
            <a:r>
              <a:rPr b="0" lang="es-ES" sz="28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y como F/πR</a:t>
            </a:r>
            <a:r>
              <a:rPr b="0" lang="es-ES" sz="28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=F/A=σ nos queda qu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σ/τ=RE/Gr </a:t>
            </a:r>
            <a:r>
              <a:rPr b="0" lang="es-ES" sz="2800" spc="-1" strike="noStrike">
                <a:solidFill>
                  <a:srgbClr val="009999"/>
                </a:solidFill>
                <a:latin typeface="Garamond"/>
              </a:rPr>
              <a:t>(c)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Desarrollo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Usando el criterio de Von M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σ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 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+ 3τ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 = Y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 </a:t>
            </a:r>
            <a:r>
              <a:rPr b="0" lang="es-ES" sz="3200" spc="-1" strike="noStrike">
                <a:solidFill>
                  <a:srgbClr val="009999"/>
                </a:solidFill>
                <a:latin typeface="Garamond"/>
              </a:rPr>
              <a:t>(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c) con (d)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τ=GrY/(3G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+R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σ=REY/(3G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+R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Si evaluamos para r=R, nos que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τ=GY/(3G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+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½ </a:t>
            </a:r>
            <a:r>
              <a:rPr b="0" lang="es-ES" sz="3200" spc="-1" strike="noStrike">
                <a:solidFill>
                  <a:srgbClr val="009999"/>
                </a:solidFill>
                <a:latin typeface="Garamond"/>
              </a:rPr>
              <a:t>(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σ=EY/(3G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+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½ </a:t>
            </a:r>
            <a:r>
              <a:rPr b="0" lang="es-ES" sz="3200" spc="-1" strike="noStrike">
                <a:solidFill>
                  <a:srgbClr val="009999"/>
                </a:solidFill>
                <a:latin typeface="Garamond"/>
              </a:rPr>
              <a:t>(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Desarrollo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Usando que 3G=E y reemplazando en (e) y (f) nos que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τ=(3)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½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Y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σ=(3)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Garamond"/>
              </a:rPr>
              <a:t>½</a:t>
            </a: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Y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hakrabarty,J. “Theory of Plastic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erdinard Beer. “Mechanics of Materia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9:01Z</dcterms:created>
  <dc:creator>restay</dc:creator>
  <dc:description/>
  <dc:language>en-US</dc:language>
  <cp:lastModifiedBy>restay</cp:lastModifiedBy>
  <dcterms:modified xsi:type="dcterms:W3CDTF">2005-11-15T17:27:34Z</dcterms:modified>
  <cp:revision>3</cp:revision>
  <dc:subject/>
  <dc:title>Tarea ME42A</dc:title>
</cp:coreProperties>
</file>